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55200" cy="9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4020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8200" y="693720"/>
            <a:ext cx="46177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9F68-7F0D-497E-976A-5A486D674C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nd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24D3-CCE3-477E-A7FD-3365FD943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0DAD-BC1E-4284-8FEF-F3DD24A93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97A9-F653-42D4-A0A2-155F5551B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5D56-AA01-4F2B-A77B-B1CE35662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B325-0446-4E95-ACF5-307CB7FDC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F169-A603-4BD1-901A-F2BB05A19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27D6-CE1B-4832-A82C-06E2BE92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9FFC-C01E-4742-B045-849D31F55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92E5-21E9-46CE-AFE1-7B9EECE13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B2C0-62CF-462B-A30E-03B8305B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4F6E-11F1-4EC0-954F-97BC7106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C723-433E-495C-A343-F9BFC67D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AB83-BBCC-44A1-AFBC-82D71BAD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7113-6E0D-4E60-813B-E3B85215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BBA0-EBAB-4A30-BEEE-475CD7AE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9D5A-5F4D-4B53-93D0-6BC74333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75A9-AB08-427C-BEE1-1F2AE0AA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F420-0BAF-4CB8-8139-1E32C6347BF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380880" y="990720"/>
            <a:ext cx="8382240" cy="335268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T TITLE—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Unit Objectiv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 a result of this unit, the students will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KNOW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 a result of this lesson students will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UNDERSTAND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tha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 a result of this unit, the student will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e able to DO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80880" y="4495680"/>
            <a:ext cx="8382240" cy="213372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nstructional Strategies Used in this 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laborative 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riting Across Curricul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ing in Content A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cultu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6095880" y="152280"/>
            <a:ext cx="2667240" cy="5544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99"/>
              </a:gs>
              <a:gs pos="100000">
                <a:srgbClr val="ffcc9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tructional C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ndra Dun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3048120" y="4419720"/>
            <a:ext cx="220968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L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aphic Orga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l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W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a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cket-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4952880" y="4419720"/>
            <a:ext cx="20574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nk-Tac-To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bing/Think D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ice 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it C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6858000" y="4495680"/>
            <a:ext cx="19051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rtual Wht. B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net A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dc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457200" y="274680"/>
            <a:ext cx="82296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497d"/>
                </a:solidFill>
                <a:latin typeface="Arial"/>
              </a:rPr>
              <a:t>Unit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04920" y="609480"/>
          <a:ext cx="8381880" cy="6127920"/>
        </p:xfrm>
        <a:graphic>
          <a:graphicData uri="http://schemas.openxmlformats.org/drawingml/2006/table">
            <a:tbl>
              <a:tblPr/>
              <a:tblGrid>
                <a:gridCol w="2793960"/>
                <a:gridCol w="2793960"/>
                <a:gridCol w="279396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EQ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le Cla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tia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33"/>
                    </a:solidFill>
                  </a:tcPr>
                </a:tc>
              </a:tr>
              <a:tr h="112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1905120" y="609480"/>
          <a:ext cx="1191960" cy="6096240"/>
        </p:xfrm>
        <a:graphic>
          <a:graphicData uri="http://schemas.openxmlformats.org/drawingml/2006/table">
            <a:tbl>
              <a:tblPr/>
              <a:tblGrid>
                <a:gridCol w="1191960"/>
              </a:tblGrid>
              <a:tr h="609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ed Lesson Du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072"/>
          <p:cNvSpPr/>
          <p:nvPr/>
        </p:nvSpPr>
        <p:spPr>
          <a:xfrm>
            <a:off x="146160" y="470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74"/>
          <p:cNvSpPr/>
          <p:nvPr/>
        </p:nvSpPr>
        <p:spPr>
          <a:xfrm>
            <a:off x="146160" y="470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76"/>
          <p:cNvSpPr/>
          <p:nvPr/>
        </p:nvSpPr>
        <p:spPr>
          <a:xfrm>
            <a:off x="146160" y="470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80"/>
          <p:cNvSpPr/>
          <p:nvPr/>
        </p:nvSpPr>
        <p:spPr>
          <a:xfrm>
            <a:off x="147600" y="4772160"/>
            <a:ext cx="25092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000"/>
            </a:br>
            <a:br>
              <a:rPr sz="10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84"/>
          <p:cNvSpPr/>
          <p:nvPr/>
        </p:nvSpPr>
        <p:spPr>
          <a:xfrm>
            <a:off x="304920" y="152280"/>
            <a:ext cx="723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85"/>
          <p:cNvSpPr/>
          <p:nvPr/>
        </p:nvSpPr>
        <p:spPr>
          <a:xfrm>
            <a:off x="304920" y="152280"/>
            <a:ext cx="845820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quisition Lesson Planning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 for the Concept, Topic, or Skill --- Not for the Da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97"/>
          <p:cNvSpPr/>
          <p:nvPr/>
        </p:nvSpPr>
        <p:spPr>
          <a:xfrm>
            <a:off x="2209680" y="1219320"/>
            <a:ext cx="6553440" cy="385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99"/>
          <p:cNvSpPr/>
          <p:nvPr/>
        </p:nvSpPr>
        <p:spPr>
          <a:xfrm>
            <a:off x="2209680" y="1447920"/>
            <a:ext cx="6553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00"/>
          <p:cNvSpPr/>
          <p:nvPr/>
        </p:nvSpPr>
        <p:spPr>
          <a:xfrm>
            <a:off x="2209680" y="1828800"/>
            <a:ext cx="6553440" cy="785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01"/>
          <p:cNvSpPr/>
          <p:nvPr/>
        </p:nvSpPr>
        <p:spPr>
          <a:xfrm>
            <a:off x="2209680" y="2743200"/>
            <a:ext cx="6553440" cy="2871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02"/>
          <p:cNvSpPr/>
          <p:nvPr/>
        </p:nvSpPr>
        <p:spPr>
          <a:xfrm>
            <a:off x="2209680" y="5715000"/>
            <a:ext cx="6553440" cy="785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03"/>
          <p:cNvSpPr/>
          <p:nvPr/>
        </p:nvSpPr>
        <p:spPr>
          <a:xfrm>
            <a:off x="380880" y="12193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ential Ques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04"/>
          <p:cNvSpPr/>
          <p:nvPr/>
        </p:nvSpPr>
        <p:spPr>
          <a:xfrm>
            <a:off x="380880" y="19051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tivating    Strateg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05"/>
          <p:cNvSpPr/>
          <p:nvPr/>
        </p:nvSpPr>
        <p:spPr>
          <a:xfrm>
            <a:off x="380880" y="27432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ing Strategi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06"/>
          <p:cNvSpPr/>
          <p:nvPr/>
        </p:nvSpPr>
        <p:spPr>
          <a:xfrm>
            <a:off x="533520" y="464832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ifferentiated Instru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07"/>
          <p:cNvSpPr/>
          <p:nvPr/>
        </p:nvSpPr>
        <p:spPr>
          <a:xfrm>
            <a:off x="380880" y="57150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mmarizing Strategi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8"/>
          <p:cNvSpPr/>
          <p:nvPr/>
        </p:nvSpPr>
        <p:spPr>
          <a:xfrm>
            <a:off x="304920" y="609480"/>
            <a:ext cx="84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ed Lesson Duration_________________________ beginning date 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465120" y="465120"/>
          <a:ext cx="7913880" cy="616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465120"/>
                    <a:ext cx="7913880" cy="616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TextBox 2"/>
          <p:cNvSpPr/>
          <p:nvPr/>
        </p:nvSpPr>
        <p:spPr>
          <a:xfrm>
            <a:off x="533520" y="1219320"/>
            <a:ext cx="777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ed Lesson Duration___________________________ beginning date 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600200" y="1522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Title 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04920" y="990720"/>
            <a:ext cx="8458200" cy="2514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SOs ADDRESS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304920" y="3809880"/>
            <a:ext cx="8458200" cy="2514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ACHER NOTES/ REFL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21:48:17Z</dcterms:created>
  <dc:creator>WVDE</dc:creator>
  <dc:description/>
  <dc:language>en-US</dc:language>
  <cp:lastModifiedBy>ccsguest</cp:lastModifiedBy>
  <dcterms:modified xsi:type="dcterms:W3CDTF">2009-01-16T19:35:14Z</dcterms:modified>
  <cp:revision>100</cp:revision>
  <dc:subject/>
  <dc:title>Slide 1</dc:title>
</cp:coreProperties>
</file>